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C5DB-FA3B-482F-86BD-AE996F10A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D6AA-744F-4569-9663-58208A825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A17-5585-4082-A978-37F8CBA2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866-9BC9-42CF-A4A0-9676748A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5F0-FA40-4AB3-BA9E-588F94B0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9FF-70B1-4C0A-BE75-91C64763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DF2-0DF0-4EC1-9C1E-FFA1B5D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E28-1CFF-4B35-BA0F-67AF9CA5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D95-4946-453A-B107-6067911E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206-32C1-4EDB-8CF4-9C94AD55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676-EFBF-498E-9D18-477117F0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BC6-CA41-4F35-9EFA-225ED4AC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08F-463F-4F77-9871-8EE17CCC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6E7-31E5-4547-B157-C8837D82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8134-7245-48D5-8AAF-1C1F5E729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985680" y="4241880"/>
            <a:ext cx="2281320" cy="85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3746520" y="3459240"/>
            <a:ext cx="1084320" cy="61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629160" y="51116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102280" y="55562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6564240" y="516744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6778800" y="4307040"/>
            <a:ext cx="1298520" cy="52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5083200" y="4649760"/>
            <a:ext cx="1197000" cy="42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1447920" y="2163600"/>
            <a:ext cx="2280960" cy="85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611360" y="2230560"/>
            <a:ext cx="1763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ource (sentence where you saw the word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935520" y="3591000"/>
            <a:ext cx="7696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WOR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098720" y="4319640"/>
            <a:ext cx="971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322960" y="4713120"/>
            <a:ext cx="75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805200" y="5232240"/>
            <a:ext cx="1122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ord Famil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6929280" y="4394160"/>
            <a:ext cx="1017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art of Speec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929280" y="5232240"/>
            <a:ext cx="731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tem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5405400" y="5613480"/>
            <a:ext cx="881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rigi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741840" y="2946240"/>
            <a:ext cx="358560" cy="53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4401720" y="3022560"/>
            <a:ext cx="38916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4724280" y="2570040"/>
            <a:ext cx="22813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5329080" y="174456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303880" y="362592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4862520" y="2668680"/>
            <a:ext cx="11858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efini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5556240" y="1820880"/>
            <a:ext cx="920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5632560" y="3713040"/>
            <a:ext cx="906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6084720" y="236052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6035760" y="3427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H="1">
            <a:off x="3271680" y="3921120"/>
            <a:ext cx="52560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692600" y="3976560"/>
            <a:ext cx="73044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935680" y="5104800"/>
            <a:ext cx="625320" cy="32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5713560" y="507528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6243480" y="462276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 flipH="1">
            <a:off x="4800240" y="5029200"/>
            <a:ext cx="2286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59:51Z</dcterms:created>
  <dc:creator>Kimberley Chandler</dc:creator>
  <dc:description/>
  <dc:language>en-US</dc:language>
  <cp:lastModifiedBy>Kimberley Chandler</cp:lastModifiedBy>
  <dcterms:modified xsi:type="dcterms:W3CDTF">2011-06-02T09:47:45Z</dcterms:modified>
  <cp:revision>3</cp:revision>
  <dc:subject/>
  <dc:title>Literature Web - Full Form</dc:title>
</cp:coreProperties>
</file>